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02558"/>
        <c:axId val="71900262"/>
      </c:barChart>
      <c:catAx>
        <c:axId val="93102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900262"/>
        <c:crosses val="autoZero"/>
        <c:auto val="1"/>
        <c:lblAlgn val="ctr"/>
        <c:lblOffset val="100"/>
        <c:noMultiLvlLbl val="0"/>
      </c:catAx>
      <c:valAx>
        <c:axId val="71900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02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0C4-E8A0-42F3-A7E2-77520018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89C-972E-4DCD-8673-0E48C93D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3FD-E6C1-4470-85A3-5BE8B79B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EB41-1C22-423E-BFA7-FE159427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185-EB12-4627-9A96-EB30898F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FAB-51E7-4ED3-9462-2C9EC22A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A28-3645-4BD2-AF87-D2F8EF57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ED45-4D29-4856-8F4C-C32F41E8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EF5-A3DB-469A-95F2-5C482E79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6503-963F-41A3-AD1F-AE6E4D12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2D7-B500-4938-9F6A-0BE06136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A60-8F5C-4CC8-A973-7CB178AF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8A4DE-80B1-426E-BA7F-2304832749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